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A19-0365-4405-9EE9-D6D9F1A6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030-0AEF-4634-8D49-F56049EF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EAD-8E24-4E78-983B-2D82E7AB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E66-AC8C-4E91-B0EA-CD026457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98E-72A8-498C-AB68-07316D00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ABE-ED2E-41B1-B752-3869028C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D50-3B50-4020-8639-9E62AF1B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F26-6D69-4A4C-996D-2D598EAB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823-6E87-4FA0-B105-6797F2DF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C72-8A8D-4014-9204-C52C71B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12C-D2D7-48B6-AF4E-D904E7D1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493-C606-463D-B035-60BD75ED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DF1A-04F0-4816-843B-D940936C0C7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05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bujando Polígonos con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ma N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tortuga1"/>
          <p:cNvPicPr/>
          <p:nvPr/>
        </p:nvPicPr>
        <p:blipFill>
          <a:blip r:embed="rId1"/>
          <a:stretch/>
        </p:blipFill>
        <p:spPr>
          <a:xfrm>
            <a:off x="3635280" y="2781360"/>
            <a:ext cx="1238400" cy="1114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2700360" y="1628640"/>
            <a:ext cx="86364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3492360" y="476280"/>
            <a:ext cx="144144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8"/>
          <p:cNvSpPr/>
          <p:nvPr/>
        </p:nvSpPr>
        <p:spPr>
          <a:xfrm>
            <a:off x="4932360" y="1484280"/>
            <a:ext cx="1008000" cy="100800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564000" y="1197000"/>
            <a:ext cx="1368360" cy="1440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"/>
          <p:cNvSpPr/>
          <p:nvPr/>
        </p:nvSpPr>
        <p:spPr>
          <a:xfrm flipH="1">
            <a:off x="320364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 flipV="1">
            <a:off x="435600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284720" y="314172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7093080" y="314172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lución al Problema Plante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3780000" y="1484280"/>
            <a:ext cx="1292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716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 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7596360" y="3357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867280" y="609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68360" y="1341360"/>
            <a:ext cx="2521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mo Resol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ar a 180 el ángulo interior cono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180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e caso todos los ángulos exteriores: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den 90º. Por lo tanto todos los giros que debe realizar la tortuga son de 90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4356000" y="3141720"/>
            <a:ext cx="2735280" cy="266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rc 14"/>
          <p:cNvSpPr/>
          <p:nvPr/>
        </p:nvSpPr>
        <p:spPr>
          <a:xfrm flipV="1">
            <a:off x="4356000" y="314172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rc 15"/>
          <p:cNvSpPr/>
          <p:nvPr/>
        </p:nvSpPr>
        <p:spPr>
          <a:xfrm>
            <a:off x="4356000" y="5589720"/>
            <a:ext cx="216000" cy="215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flipH="1">
            <a:off x="6877080" y="5589720"/>
            <a:ext cx="216000" cy="21564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H="1" flipV="1">
            <a:off x="6877080" y="31417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3059280" y="5013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19"/>
          <p:cNvSpPr/>
          <p:nvPr/>
        </p:nvSpPr>
        <p:spPr>
          <a:xfrm>
            <a:off x="4356000" y="2708280"/>
            <a:ext cx="503280" cy="433440"/>
          </a:xfrm>
          <a:custGeom>
            <a:avLst/>
            <a:gdLst>
              <a:gd name="textAreaLeft" fmla="*/ 0 w 503280"/>
              <a:gd name="textAreaRight" fmla="*/ 503640 w 503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20"/>
          <p:cNvSpPr/>
          <p:nvPr/>
        </p:nvSpPr>
        <p:spPr>
          <a:xfrm flipV="1">
            <a:off x="7093080" y="3141000"/>
            <a:ext cx="574560" cy="576360"/>
          </a:xfrm>
          <a:custGeom>
            <a:avLst/>
            <a:gdLst>
              <a:gd name="textAreaLeft" fmla="*/ 0 w 574560"/>
              <a:gd name="textAreaRight" fmla="*/ 574920 w 5745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21"/>
          <p:cNvSpPr/>
          <p:nvPr/>
        </p:nvSpPr>
        <p:spPr>
          <a:xfrm flipH="1" flipV="1">
            <a:off x="6516000" y="5804640"/>
            <a:ext cx="576360" cy="36036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22"/>
          <p:cNvSpPr/>
          <p:nvPr/>
        </p:nvSpPr>
        <p:spPr>
          <a:xfrm flipH="1">
            <a:off x="3635280" y="5084640"/>
            <a:ext cx="720720" cy="7207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4356000" y="530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4427640" y="33577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6300720" y="3284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6443640" y="53737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27"/>
          <p:cNvSpPr txBox="1"/>
          <p:nvPr/>
        </p:nvSpPr>
        <p:spPr>
          <a:xfrm>
            <a:off x="3780000" y="6426360"/>
            <a:ext cx="93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rt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imitivas para dibujar el Cuad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692280"/>
          <a:ext cx="8229600" cy="338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cion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bu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0" name="Group 11"/>
          <p:cNvGrpSpPr/>
          <p:nvPr/>
        </p:nvGrpSpPr>
        <p:grpSpPr>
          <a:xfrm>
            <a:off x="5219640" y="1197000"/>
            <a:ext cx="2592360" cy="2376360"/>
            <a:chOff x="5219640" y="1197000"/>
            <a:chExt cx="2592360" cy="2376360"/>
          </a:xfrm>
        </p:grpSpPr>
        <p:sp>
          <p:nvSpPr>
            <p:cNvPr id="171" name="Rectangle 12"/>
            <p:cNvSpPr/>
            <p:nvPr/>
          </p:nvSpPr>
          <p:spPr>
            <a:xfrm>
              <a:off x="5435640" y="1197000"/>
              <a:ext cx="2376360" cy="23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3"/>
            <p:cNvSpPr/>
            <p:nvPr/>
          </p:nvSpPr>
          <p:spPr>
            <a:xfrm>
              <a:off x="5219640" y="3285720"/>
              <a:ext cx="503280" cy="287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4"/>
          <p:cNvSpPr/>
          <p:nvPr/>
        </p:nvSpPr>
        <p:spPr>
          <a:xfrm>
            <a:off x="468360" y="4076640"/>
            <a:ext cx="8207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el cuadrado es un polígono regular de 4 lados, debemos repetir 4 veces las mismas instrucciones, es decir: AV 100, GD 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 forma de hacer lo mismo es: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ITE 4 [AV 100 GD 9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rimitiva REPITE, permite repetir n veces (en este caso 4) las instrucciones que están entre los paréntesis cuad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emos la pantalla con BP y probemos con esta nueva instr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6048360" y="6399360"/>
            <a:ext cx="3095640" cy="458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6"/>
          <p:cNvSpPr txBox="1"/>
          <p:nvPr/>
        </p:nvSpPr>
        <p:spPr>
          <a:xfrm>
            <a:off x="6192720" y="649764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Índ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7"/>
          <p:cNvSpPr txBox="1"/>
          <p:nvPr/>
        </p:nvSpPr>
        <p:spPr>
          <a:xfrm>
            <a:off x="7777080" y="6497640"/>
            <a:ext cx="1224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inuar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calculo para los ángulos de giro de la Tortuga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28472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3851280" y="1413000"/>
            <a:ext cx="1292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1" name="AutoShape 6"/>
          <p:cNvSpPr/>
          <p:nvPr/>
        </p:nvSpPr>
        <p:spPr>
          <a:xfrm rot="19628400">
            <a:off x="3420720" y="2781360"/>
            <a:ext cx="3095640" cy="2376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"/>
          <p:cNvSpPr/>
          <p:nvPr/>
        </p:nvSpPr>
        <p:spPr>
          <a:xfrm flipV="1" rot="12379200">
            <a:off x="4284000" y="530028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284720" y="3284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867280" y="4005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356000" y="501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11"/>
          <p:cNvSpPr/>
          <p:nvPr/>
        </p:nvSpPr>
        <p:spPr>
          <a:xfrm flipV="1" rot="5667000">
            <a:off x="6434640" y="401256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12"/>
          <p:cNvSpPr/>
          <p:nvPr/>
        </p:nvSpPr>
        <p:spPr>
          <a:xfrm flipV="1" rot="19084800">
            <a:off x="4284360" y="299736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13"/>
          <p:cNvSpPr/>
          <p:nvPr/>
        </p:nvSpPr>
        <p:spPr>
          <a:xfrm>
            <a:off x="4295880" y="2349360"/>
            <a:ext cx="1068120" cy="107316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</a:path>
              <a:path stroke="0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  <a:lnTo>
                  <a:pt x="1301" y="21600"/>
                </a:lnTo>
                <a:lnTo>
                  <a:pt x="0" y="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003640" y="22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4284720" y="2924280"/>
            <a:ext cx="360036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16"/>
          <p:cNvSpPr/>
          <p:nvPr/>
        </p:nvSpPr>
        <p:spPr>
          <a:xfrm rot="7493400">
            <a:off x="6198480" y="4011120"/>
            <a:ext cx="1222560" cy="107316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</a:path>
              <a:path stroke="0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  <a:lnTo>
                  <a:pt x="4586" y="21600"/>
                </a:lnTo>
                <a:lnTo>
                  <a:pt x="0" y="4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6659640" y="508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700360" y="551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H="1">
            <a:off x="3058920" y="4149720"/>
            <a:ext cx="388908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20"/>
          <p:cNvSpPr/>
          <p:nvPr/>
        </p:nvSpPr>
        <p:spPr>
          <a:xfrm rot="15208800">
            <a:off x="3182760" y="4993560"/>
            <a:ext cx="1476360" cy="107316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</a:path>
              <a:path stroke="0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  <a:lnTo>
                  <a:pt x="10020" y="21600"/>
                </a:lnTo>
                <a:lnTo>
                  <a:pt x="-1" y="24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95280" y="2060640"/>
            <a:ext cx="2521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ociendo los ángulos interiores de un polígono (en este caso todos miden 60º). Determina la medida de los ángulos exteriores denomin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25"/>
          <p:cNvSpPr txBox="1"/>
          <p:nvPr/>
        </p:nvSpPr>
        <p:spPr>
          <a:xfrm>
            <a:off x="3780000" y="6426360"/>
            <a:ext cx="93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rt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 flipV="1">
            <a:off x="428472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3851280" y="1413000"/>
            <a:ext cx="1292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1" name="AutoShape 6"/>
          <p:cNvSpPr/>
          <p:nvPr/>
        </p:nvSpPr>
        <p:spPr>
          <a:xfrm rot="19628400">
            <a:off x="3420720" y="2781360"/>
            <a:ext cx="3095640" cy="2376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7"/>
          <p:cNvSpPr/>
          <p:nvPr/>
        </p:nvSpPr>
        <p:spPr>
          <a:xfrm flipV="1" rot="12379200">
            <a:off x="4284000" y="530028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284720" y="3284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5867280" y="4005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356000" y="501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1"/>
          <p:cNvSpPr/>
          <p:nvPr/>
        </p:nvSpPr>
        <p:spPr>
          <a:xfrm flipV="1" rot="5667000">
            <a:off x="6434640" y="401256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12"/>
          <p:cNvSpPr/>
          <p:nvPr/>
        </p:nvSpPr>
        <p:spPr>
          <a:xfrm flipV="1" rot="19084800">
            <a:off x="4284360" y="299736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13"/>
          <p:cNvSpPr/>
          <p:nvPr/>
        </p:nvSpPr>
        <p:spPr>
          <a:xfrm>
            <a:off x="4295880" y="2349360"/>
            <a:ext cx="1068120" cy="107316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</a:path>
              <a:path stroke="0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  <a:lnTo>
                  <a:pt x="1301" y="21600"/>
                </a:lnTo>
                <a:lnTo>
                  <a:pt x="0" y="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5003640" y="227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>
            <a:off x="4284720" y="2924280"/>
            <a:ext cx="360036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16"/>
          <p:cNvSpPr/>
          <p:nvPr/>
        </p:nvSpPr>
        <p:spPr>
          <a:xfrm rot="7493400">
            <a:off x="6198480" y="4011120"/>
            <a:ext cx="1222560" cy="107316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</a:path>
              <a:path stroke="0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  <a:lnTo>
                  <a:pt x="4586" y="21600"/>
                </a:lnTo>
                <a:lnTo>
                  <a:pt x="0" y="4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6659640" y="50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2843280" y="5084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 flipH="1">
            <a:off x="3058920" y="4149720"/>
            <a:ext cx="388908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20"/>
          <p:cNvSpPr/>
          <p:nvPr/>
        </p:nvSpPr>
        <p:spPr>
          <a:xfrm rot="15208800">
            <a:off x="3182760" y="4993560"/>
            <a:ext cx="1476360" cy="107316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</a:path>
              <a:path stroke="0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  <a:lnTo>
                  <a:pt x="10020" y="21600"/>
                </a:lnTo>
                <a:lnTo>
                  <a:pt x="-1" y="24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324000" y="1413000"/>
            <a:ext cx="252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mo Resol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ar a 180 el ángulo interior cono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180-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1=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e caso todos los ángulos exteriores: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den 120º. Por lo tanto todos los giros que debe realizar la tortuga son de 120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22"/>
          <p:cNvSpPr txBox="1"/>
          <p:nvPr/>
        </p:nvSpPr>
        <p:spPr>
          <a:xfrm>
            <a:off x="3780000" y="6426360"/>
            <a:ext cx="93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rt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al Problema Plante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imitivas para dibujar el Triá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5280" y="907920"/>
          <a:ext cx="8229600" cy="3384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cion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bu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11"/>
          <p:cNvSpPr/>
          <p:nvPr/>
        </p:nvSpPr>
        <p:spPr>
          <a:xfrm>
            <a:off x="395280" y="4581360"/>
            <a:ext cx="8207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este triángulo es un polígono regular de 3 lados iguales y tres ángulo iguales, debemos repetir 3 veces las mismas instrucciones, es decir: AV 100, GD 1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 forma de hacer lo mismo es: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ITE 3 [AV 100 GD 1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emos la pantalla con BP y probemos con esta nueva instr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 rot="5400000">
            <a:off x="5759280" y="1593720"/>
            <a:ext cx="2089080" cy="1584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5796000" y="3141720"/>
            <a:ext cx="503280" cy="287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Qué está sucediendo?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Cuál es la raz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229600" cy="305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mos los Ángulos Exteriores del Triangul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mos los Ángulos Exteriores del Cuadrad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AutoShape 11"/>
          <p:cNvSpPr/>
          <p:nvPr/>
        </p:nvSpPr>
        <p:spPr>
          <a:xfrm rot="16200000">
            <a:off x="2339640" y="2276280"/>
            <a:ext cx="503280" cy="2808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 rot="16200000">
            <a:off x="6300720" y="2060640"/>
            <a:ext cx="503280" cy="3240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1835280" y="3932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796000" y="3932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179280" y="4869000"/>
            <a:ext cx="871380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Generalizando la forma de calcular el ángulo de gir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puede establecer que el ángulo de giro para cualquier polígono regula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Ángulo de Giro = 360 / nº de 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6"/>
          <p:cNvSpPr/>
          <p:nvPr/>
        </p:nvSpPr>
        <p:spPr>
          <a:xfrm>
            <a:off x="395280" y="1557360"/>
            <a:ext cx="1944720" cy="2087640"/>
          </a:xfrm>
          <a:prstGeom prst="cloudCallout">
            <a:avLst>
              <a:gd name="adj1" fmla="val -5671"/>
              <a:gd name="adj2" fmla="val 91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"/>
          <p:cNvSpPr/>
          <p:nvPr/>
        </p:nvSpPr>
        <p:spPr>
          <a:xfrm>
            <a:off x="2556000" y="1916280"/>
            <a:ext cx="6264000" cy="3816360"/>
          </a:xfrm>
          <a:prstGeom prst="wedgeRoundRectCallout">
            <a:avLst>
              <a:gd name="adj1" fmla="val -67180"/>
              <a:gd name="adj2" fmla="val 24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ra un polígono de 5 lados, es decir, un Pentágono el cálculo sería el sigu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º de lado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Ángulo de Giro = 360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Ángulo de Giro =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1692360" y="33336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¡¡¡Aplicando la Fórmula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4" name="Picture 4" descr="turtle-logo"/>
          <p:cNvPicPr/>
          <p:nvPr/>
        </p:nvPicPr>
        <p:blipFill>
          <a:blip r:embed="rId1"/>
          <a:stretch/>
        </p:blipFill>
        <p:spPr>
          <a:xfrm>
            <a:off x="539640" y="4581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826920" y="2060640"/>
            <a:ext cx="936720" cy="100800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1" descr="tortuga_logo"/>
          <p:cNvPicPr/>
          <p:nvPr/>
        </p:nvPicPr>
        <p:blipFill>
          <a:blip r:embed="rId1"/>
          <a:stretch/>
        </p:blipFill>
        <p:spPr>
          <a:xfrm>
            <a:off x="5003640" y="3141720"/>
            <a:ext cx="3673800" cy="313668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38"/>
          <p:cNvSpPr/>
          <p:nvPr/>
        </p:nvSpPr>
        <p:spPr>
          <a:xfrm>
            <a:off x="928800" y="857160"/>
            <a:ext cx="4390920" cy="1513080"/>
          </a:xfrm>
          <a:prstGeom prst="wedgeEllipseCallout">
            <a:avLst>
              <a:gd name="adj1" fmla="val 66259"/>
              <a:gd name="adj2" fmla="val 99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hora, en la computadora y utilizando el Lenguaje Logo, desarrolla los ejercicios propuestos en la Guía Nº 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ejar la Interfaz de Trabajo del Lenguaje Lo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tilizar y aplicar las principales instrucciones o Primitivas que permiten mover y crear dibujos con la tortu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er y aplicar la formula de cálculo de los ángulos de giro ex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zar diversos polígonos a través del Lenguaje Logo, simplificando las instrucciones repet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cordando las Primi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5640" y="1557360"/>
          <a:ext cx="7869240" cy="5029200"/>
        </p:xfrm>
        <a:graphic>
          <a:graphicData uri="http://schemas.openxmlformats.org/drawingml/2006/table">
            <a:tbl>
              <a:tblPr/>
              <a:tblGrid>
                <a:gridCol w="2952720"/>
                <a:gridCol w="491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z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oc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ar De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ar Izqui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rar Panta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e Láp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Láp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r Goma para Borr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LAP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er Lápiz y desactivar G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ITE n [ primitivas 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ite n v veces las primitivas que están en paréntesis cuadr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ltar Tortu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rar Tortu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51" descr="tortuga_logo"/>
          <p:cNvPicPr/>
          <p:nvPr/>
        </p:nvPicPr>
        <p:blipFill>
          <a:blip r:embed="rId1"/>
          <a:stretch/>
        </p:blipFill>
        <p:spPr>
          <a:xfrm>
            <a:off x="0" y="18900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cordemos los Polígo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68360" y="765000"/>
            <a:ext cx="7920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olígono es una figura geométrica plana limitada por al menos tres segmentos rectos consecutivos no alineados, llamados 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podemos decir que los polígonos son figuras cerradas, formadas por varios segmentos de líneas, a las que llamamos l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11280" y="2276640"/>
            <a:ext cx="8229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979640" y="3213000"/>
            <a:ext cx="1079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611280" y="3284640"/>
            <a:ext cx="936360" cy="865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508720" y="3068640"/>
            <a:ext cx="1224000" cy="1152360"/>
          </a:xfrm>
          <a:prstGeom prst="hexagon">
            <a:avLst>
              <a:gd name="adj" fmla="val 2655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3635280" y="2997360"/>
            <a:ext cx="1368360" cy="122364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1332000" y="5300640"/>
            <a:ext cx="1655640" cy="1009800"/>
          </a:xfrm>
          <a:prstGeom prst="parallelogram">
            <a:avLst>
              <a:gd name="adj" fmla="val 409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3995640" y="5157720"/>
            <a:ext cx="1368360" cy="86364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180000 h 863640"/>
              <a:gd name="textAreaBottom" fmla="*/ 68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7164360" y="2997360"/>
            <a:ext cx="1441440" cy="136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2"/>
          <p:cNvSpPr/>
          <p:nvPr/>
        </p:nvSpPr>
        <p:spPr>
          <a:xfrm>
            <a:off x="6300720" y="5084640"/>
            <a:ext cx="1656000" cy="12240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043" h="771">
                <a:moveTo>
                  <a:pt x="0" y="0"/>
                </a:moveTo>
                <a:lnTo>
                  <a:pt x="1043" y="0"/>
                </a:lnTo>
                <a:lnTo>
                  <a:pt x="1043" y="726"/>
                </a:lnTo>
                <a:lnTo>
                  <a:pt x="725" y="408"/>
                </a:lnTo>
                <a:lnTo>
                  <a:pt x="0" y="771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lementos de los Polígo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8360" y="765000"/>
            <a:ext cx="792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lementos de un polígono son: Lados, Vértices, Ángulos, Diagonales. Veamos algunos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300720" y="2492280"/>
            <a:ext cx="1295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268360" y="2276640"/>
            <a:ext cx="1295640" cy="1081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1836720" y="1700280"/>
            <a:ext cx="57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ad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1619280" y="3932280"/>
            <a:ext cx="6476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értic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7237440" y="4149720"/>
            <a:ext cx="6476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Ángul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6300720" y="2492280"/>
            <a:ext cx="1297080" cy="10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10"/>
          <p:cNvSpPr/>
          <p:nvPr/>
        </p:nvSpPr>
        <p:spPr>
          <a:xfrm>
            <a:off x="2411280" y="313992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1"/>
          <p:cNvSpPr/>
          <p:nvPr/>
        </p:nvSpPr>
        <p:spPr>
          <a:xfrm>
            <a:off x="6300720" y="3357720"/>
            <a:ext cx="216000" cy="215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2"/>
          <p:cNvSpPr txBox="1"/>
          <p:nvPr/>
        </p:nvSpPr>
        <p:spPr>
          <a:xfrm>
            <a:off x="5869080" y="4149720"/>
            <a:ext cx="6476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értic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7164360" y="1700280"/>
            <a:ext cx="6476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iagonal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2916360" y="3932280"/>
            <a:ext cx="6476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Ángul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15"/>
          <p:cNvSpPr txBox="1"/>
          <p:nvPr/>
        </p:nvSpPr>
        <p:spPr>
          <a:xfrm>
            <a:off x="5076720" y="1916280"/>
            <a:ext cx="576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ad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2124000" y="1989000"/>
            <a:ext cx="503280" cy="719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5508720" y="2205000"/>
            <a:ext cx="720720" cy="719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 flipH="1" flipV="1">
            <a:off x="2411280" y="3284640"/>
            <a:ext cx="865440" cy="576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 flipH="1" flipV="1">
            <a:off x="6372000" y="3500280"/>
            <a:ext cx="1081080" cy="6494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V="1">
            <a:off x="1908000" y="3355920"/>
            <a:ext cx="360360" cy="5047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 flipV="1">
            <a:off x="6156360" y="3644640"/>
            <a:ext cx="144360" cy="4316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 flipH="1">
            <a:off x="6948000" y="2060640"/>
            <a:ext cx="576360" cy="9367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395280" y="4797360"/>
            <a:ext cx="7993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lados son segmentos que forman el políg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vértices son cada uno de los puntos en que se forman los 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ángulos del polígono son los ángulos que forman los 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diagonales son los segmentos que unen dos vértices no consecu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Polígonos según el número de l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4038480" cy="4675320"/>
        </p:xfrm>
        <a:graphic>
          <a:graphicData uri="http://schemas.openxmlformats.org/drawingml/2006/table">
            <a:tbl>
              <a:tblPr/>
              <a:tblGrid>
                <a:gridCol w="917640"/>
                <a:gridCol w="1849320"/>
                <a:gridCol w="12715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ng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drilát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AutoShape 29"/>
          <p:cNvSpPr/>
          <p:nvPr/>
        </p:nvSpPr>
        <p:spPr>
          <a:xfrm>
            <a:off x="3419640" y="2349360"/>
            <a:ext cx="792000" cy="719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3419640" y="3357720"/>
            <a:ext cx="647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1"/>
          <p:cNvSpPr/>
          <p:nvPr/>
        </p:nvSpPr>
        <p:spPr>
          <a:xfrm>
            <a:off x="3419640" y="4292640"/>
            <a:ext cx="647640" cy="7207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2"/>
          <p:cNvSpPr/>
          <p:nvPr/>
        </p:nvSpPr>
        <p:spPr>
          <a:xfrm>
            <a:off x="3348000" y="5373720"/>
            <a:ext cx="863640" cy="719280"/>
          </a:xfrm>
          <a:prstGeom prst="hexagon">
            <a:avLst>
              <a:gd name="adj" fmla="val 3001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788000" y="1628640"/>
          <a:ext cx="4038480" cy="4638960"/>
        </p:xfrm>
        <a:graphic>
          <a:graphicData uri="http://schemas.openxmlformats.org/drawingml/2006/table">
            <a:tbl>
              <a:tblPr/>
              <a:tblGrid>
                <a:gridCol w="917640"/>
                <a:gridCol w="1849320"/>
                <a:gridCol w="12715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t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55" descr="heptagono"/>
          <p:cNvPicPr/>
          <p:nvPr/>
        </p:nvPicPr>
        <p:blipFill>
          <a:blip r:embed="rId1"/>
          <a:stretch/>
        </p:blipFill>
        <p:spPr>
          <a:xfrm>
            <a:off x="7740720" y="2349360"/>
            <a:ext cx="934920" cy="91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" descr="octagono"/>
          <p:cNvPicPr/>
          <p:nvPr/>
        </p:nvPicPr>
        <p:blipFill>
          <a:blip r:embed="rId2"/>
          <a:stretch/>
        </p:blipFill>
        <p:spPr>
          <a:xfrm>
            <a:off x="7667640" y="364500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7" descr="eneagono"/>
          <p:cNvPicPr/>
          <p:nvPr/>
        </p:nvPicPr>
        <p:blipFill>
          <a:blip r:embed="rId3"/>
          <a:stretch/>
        </p:blipFill>
        <p:spPr>
          <a:xfrm>
            <a:off x="7667640" y="501336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ngulos Interiores y Exteriores de un Políg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9640" y="907920"/>
            <a:ext cx="7931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ada vértice es posible encontrar un ángulo interior y un ángulo ex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suma de un ángulo interior con un ángulo exterior dará exactamente 180º, por lo tanto estos dos ángulos forman un ángulo suplemen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278136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gulo_suplementario"/>
          <p:cNvPicPr/>
          <p:nvPr/>
        </p:nvPicPr>
        <p:blipFill>
          <a:blip r:embed="rId1"/>
          <a:stretch/>
        </p:blipFill>
        <p:spPr>
          <a:xfrm>
            <a:off x="324000" y="4005360"/>
            <a:ext cx="3384360" cy="17557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611280" y="3645000"/>
            <a:ext cx="2665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Ángulo Adyactente Suplementari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58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= 18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611280" y="6237360"/>
            <a:ext cx="2665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n su conjunto forman u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ángulo extendid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6300720" y="2924280"/>
            <a:ext cx="2519280" cy="25207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588000" y="4797360"/>
            <a:ext cx="57636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11"/>
          <p:cNvSpPr/>
          <p:nvPr/>
        </p:nvSpPr>
        <p:spPr>
          <a:xfrm>
            <a:off x="6732720" y="5159520"/>
            <a:ext cx="360360" cy="549000"/>
          </a:xfrm>
          <a:custGeom>
            <a:avLst/>
            <a:gdLst>
              <a:gd name="textAreaLeft" fmla="*/ 0 w 360360"/>
              <a:gd name="textAreaRight" fmla="*/ 360720 w 36036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fill="none" w="21600" h="4131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0111"/>
                  <a:pt x="16601" y="37829"/>
                  <a:pt x="8833" y="41310"/>
                </a:cubicBezTo>
              </a:path>
              <a:path stroke="0" w="21600" h="4131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0111"/>
                  <a:pt x="16601" y="37829"/>
                  <a:pt x="8833" y="413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7019640" y="4437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7236000" y="386064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Áng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740720" y="573408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Áng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x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H="1" flipV="1">
            <a:off x="7164360" y="566064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6156360" y="4797360"/>
            <a:ext cx="1224000" cy="12240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427640" y="3573360"/>
            <a:ext cx="151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mbos ángulos forman un ángulo extendido o de 18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5435640" y="458136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7"/>
          <p:cNvSpPr/>
          <p:nvPr/>
        </p:nvSpPr>
        <p:spPr>
          <a:xfrm>
            <a:off x="1979640" y="1773360"/>
            <a:ext cx="6769080" cy="23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preciso recordar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ara dibujar polígonos en el Lenguaje Logo, la Tortuga debe girar los grados del ángul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uerda que el ángulo interior más el ángulo exterior deben sumar 180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332000" y="69228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¡¡¡Importante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5" name="Picture 6" descr="turtle-logo"/>
          <p:cNvPicPr/>
          <p:nvPr/>
        </p:nvPicPr>
        <p:blipFill>
          <a:blip r:embed="rId1"/>
          <a:stretch/>
        </p:blipFill>
        <p:spPr>
          <a:xfrm>
            <a:off x="611280" y="3357720"/>
            <a:ext cx="27734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5"/>
          <p:cNvSpPr/>
          <p:nvPr/>
        </p:nvSpPr>
        <p:spPr>
          <a:xfrm flipH="1">
            <a:off x="320364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 flipV="1">
            <a:off x="435600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284720" y="314172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7093080" y="314172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calculo para los ángulos de giro de la Tortuga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780000" y="1484280"/>
            <a:ext cx="1292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716360" y="2492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596360" y="33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6084720" y="609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395280" y="2565360"/>
            <a:ext cx="2881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ociendo los ángulos interiores de un polígono (en este caso todos miden 90º). Determina la medida de los ángulos exteriores denomin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4356000" y="3141720"/>
            <a:ext cx="2735280" cy="266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17"/>
          <p:cNvSpPr/>
          <p:nvPr/>
        </p:nvSpPr>
        <p:spPr>
          <a:xfrm flipV="1">
            <a:off x="4356000" y="314172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18"/>
          <p:cNvSpPr/>
          <p:nvPr/>
        </p:nvSpPr>
        <p:spPr>
          <a:xfrm>
            <a:off x="4356000" y="5589720"/>
            <a:ext cx="216000" cy="215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19"/>
          <p:cNvSpPr/>
          <p:nvPr/>
        </p:nvSpPr>
        <p:spPr>
          <a:xfrm flipH="1">
            <a:off x="6877080" y="5589720"/>
            <a:ext cx="216000" cy="21564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20"/>
          <p:cNvSpPr/>
          <p:nvPr/>
        </p:nvSpPr>
        <p:spPr>
          <a:xfrm flipH="1" flipV="1">
            <a:off x="6877080" y="31417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3203640" y="5013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22"/>
          <p:cNvSpPr/>
          <p:nvPr/>
        </p:nvSpPr>
        <p:spPr>
          <a:xfrm>
            <a:off x="4356000" y="2708280"/>
            <a:ext cx="503280" cy="433440"/>
          </a:xfrm>
          <a:custGeom>
            <a:avLst/>
            <a:gdLst>
              <a:gd name="textAreaLeft" fmla="*/ 0 w 503280"/>
              <a:gd name="textAreaRight" fmla="*/ 503640 w 503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23"/>
          <p:cNvSpPr/>
          <p:nvPr/>
        </p:nvSpPr>
        <p:spPr>
          <a:xfrm flipV="1">
            <a:off x="7093080" y="3141000"/>
            <a:ext cx="574560" cy="576360"/>
          </a:xfrm>
          <a:custGeom>
            <a:avLst/>
            <a:gdLst>
              <a:gd name="textAreaLeft" fmla="*/ 0 w 574560"/>
              <a:gd name="textAreaRight" fmla="*/ 574920 w 5745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24"/>
          <p:cNvSpPr/>
          <p:nvPr/>
        </p:nvSpPr>
        <p:spPr>
          <a:xfrm flipH="1" flipV="1">
            <a:off x="6516000" y="5804640"/>
            <a:ext cx="576360" cy="36036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25"/>
          <p:cNvSpPr/>
          <p:nvPr/>
        </p:nvSpPr>
        <p:spPr>
          <a:xfrm flipH="1">
            <a:off x="3635280" y="5084640"/>
            <a:ext cx="720720" cy="7207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356000" y="530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427640" y="33577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6300720" y="3284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6443640" y="53737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30"/>
          <p:cNvSpPr txBox="1"/>
          <p:nvPr/>
        </p:nvSpPr>
        <p:spPr>
          <a:xfrm>
            <a:off x="3851280" y="6426360"/>
            <a:ext cx="93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rt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3:13:32Z</dcterms:created>
  <dc:creator>cliente preferencial</dc:creator>
  <dc:description/>
  <dc:language>en-US</dc:language>
  <cp:lastModifiedBy>eduardo pedro paredes barrios</cp:lastModifiedBy>
  <dcterms:modified xsi:type="dcterms:W3CDTF">2014-03-04T01:34:48Z</dcterms:modified>
  <cp:revision>55</cp:revision>
  <dc:subject/>
  <dc:title>Conociendo la Tortuga del Lenguaje Logo</dc:title>
</cp:coreProperties>
</file>